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3.png" ContentType="image/png"/>
  <Override PartName="/ppt/media/image4.pct" ContentType="image/x-pict"/>
  <Override PartName="/ppt/media/image5.jpeg" ContentType="image/jpeg"/>
  <Override PartName="/ppt/media/image7.pct" ContentType="image/x-pict"/>
  <Override PartName="/ppt/media/image6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F4B7-595E-4B6D-B1C1-74241E60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911-ABD8-4955-A7A8-BE5CC8E7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DA7D-BBBB-4C84-A525-89303E84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7804-A11E-4975-972C-FEFC7DDE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41D3-2768-4958-AE1D-62493A65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716A-1153-4676-AB57-A8FE0E20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2B6E-89D0-42F3-854D-22FF1BB6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EE52-1C49-4D31-B8F6-0B809636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DC85-6F78-4571-946D-AC0A0A06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8A36-ACE7-4C77-821F-E6B42ABD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5226-859C-47CD-94F6-2F0C7E26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D3BA-46F8-436B-BD99-BB899E49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6671-35CA-4342-90CE-4F0C24174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4952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0602"/>
                </a:solidFill>
                <a:latin typeface="Comic Sans MS"/>
              </a:rPr>
              <a:t>Difetti congeniti del metabolismo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649600" y="1295280"/>
            <a:ext cx="3844800" cy="3470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37840" y="594216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zion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8380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Analisi delle mutazioni di OCA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162920" y="609480"/>
            <a:ext cx="1770120" cy="1597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336600" y="2131920"/>
            <a:ext cx="84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senza di piu’ di una mutazione nel DNA dell’affet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" y="2666880"/>
            <a:ext cx="47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mutazioni possono esser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342900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issenso: sostituzione di una base che porta 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ambiamento dell’amminoac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-48600" y="4192560"/>
            <a:ext cx="918612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 stessa sostituzione e’ presente nella popolazione generale an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 omozigosi senza conseguenze? s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i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e’ un polimorfismo e ci d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e quella regione della proteina o quell’amminoacido non e’ cri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er la funzione.E’ una mutazione conservativa.(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’accumularsi di dati su piu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miglie e sulla popolazione generale facilita l’interpretazion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8380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Analisi delle mutazioni di OCA 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162920" y="609480"/>
            <a:ext cx="1770120" cy="15973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30240" y="2209680"/>
            <a:ext cx="88506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gnuna delle altre mutazioni e’ presente in omozigosi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tri soggetti albini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n imparentati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? S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i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e’ proba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e siano patogenetiche e ritrovarne una nei frate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ll’affetto lo fa identificare come portatore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 mut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ve essere presente in eterozigosi in un genitor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680" y="4276800"/>
            <a:ext cx="907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gnuna delle altre mutazioni e’ presente in omozigosi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tri soggetti albini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n imparentati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? S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riguarda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gione nota per essere necessaria al funzionamento d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teina? S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i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e’ probabile che sia patogenetica(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fr. sopr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8380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Analisi delle mutazioni di OCA V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162920" y="609480"/>
            <a:ext cx="1770120" cy="15973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41040" y="3733920"/>
            <a:ext cx="911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ll’albinismo oculocutaneo sono stati trovati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terozigo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mposti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soggetti affetti in cui la mutazione patogene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n e’ presente in omozigosi, ma la presenza di due alle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tologici fa manifestare la malattia. I genitori 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entuali fratelli in cui e’ presente anche l’allel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ild-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no eterozigoti per una sola mutazione.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-720" y="236232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l gene della tirosinasi sono riportate anche mut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ameshift che possono originare una proteina tron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8380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Mappa delle mutazioni di 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162920" y="609480"/>
            <a:ext cx="1770120" cy="1597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203832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28600" y="2165400"/>
            <a:ext cx="8686800" cy="2321640"/>
            <a:chOff x="228600" y="2165400"/>
            <a:chExt cx="8686800" cy="2321640"/>
          </a:xfrm>
        </p:grpSpPr>
        <p:sp>
          <p:nvSpPr>
            <p:cNvPr id="213" name=""/>
            <p:cNvSpPr/>
            <p:nvPr/>
          </p:nvSpPr>
          <p:spPr>
            <a:xfrm>
              <a:off x="228600" y="3581280"/>
              <a:ext cx="533520" cy="1526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520" y="3352680"/>
              <a:ext cx="2057400" cy="533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ed0d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14600" y="3581280"/>
              <a:ext cx="380880" cy="1526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38600" y="3352680"/>
              <a:ext cx="1047600" cy="533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ed0d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I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09880" y="3581280"/>
              <a:ext cx="228600" cy="1526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13280" y="3352680"/>
              <a:ext cx="1066680" cy="533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ed0d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II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52880" y="3581280"/>
              <a:ext cx="685800" cy="1526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81800" y="3352680"/>
              <a:ext cx="1047600" cy="533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ed0d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I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53080" y="3581280"/>
              <a:ext cx="457200" cy="1526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66000" y="3352680"/>
              <a:ext cx="1047600" cy="533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ed0d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24680" y="3581280"/>
              <a:ext cx="990720" cy="1526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5400000">
              <a:off x="1942920" y="3695760"/>
              <a:ext cx="152280" cy="685800"/>
            </a:xfrm>
            <a:custGeom>
              <a:avLst/>
              <a:gdLst>
                <a:gd name="textAreaLeft" fmla="*/ 0 w 152280"/>
                <a:gd name="textAreaRight" fmla="*/ 106920 w 152280"/>
                <a:gd name="textAreaTop" fmla="*/ 28440 h 685800"/>
                <a:gd name="textAreaBottom" fmla="*/ 6573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5400000">
              <a:off x="4380840" y="3771720"/>
              <a:ext cx="152640" cy="685800"/>
            </a:xfrm>
            <a:custGeom>
              <a:avLst/>
              <a:gdLst>
                <a:gd name="textAreaLeft" fmla="*/ 0 w 152640"/>
                <a:gd name="textAreaRight" fmla="*/ 107280 w 152640"/>
                <a:gd name="textAreaTop" fmla="*/ 28440 h 685800"/>
                <a:gd name="textAreaBottom" fmla="*/ 6573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97320" y="4149720"/>
              <a:ext cx="68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u(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16600" y="411480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u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120" y="28195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8080" y="26668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14400" y="28195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68560" y="28195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95280" y="28195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23880" y="28195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68560" y="269244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01760" y="269244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01760" y="255888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01760" y="2432160"/>
              <a:ext cx="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01760" y="229860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95280" y="216540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16160" y="28195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2057400" y="2895480"/>
              <a:ext cx="0" cy="533520"/>
              <a:chOff x="2057400" y="2895480"/>
              <a:chExt cx="0" cy="533520"/>
            </a:xfrm>
          </p:grpSpPr>
          <p:sp>
            <p:nvSpPr>
              <p:cNvPr id="242" name=""/>
              <p:cNvSpPr/>
              <p:nvPr/>
            </p:nvSpPr>
            <p:spPr>
              <a:xfrm>
                <a:off x="2057400" y="289548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057400" y="2895480"/>
                <a:ext cx="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1816200" y="27813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81080" y="2438280"/>
              <a:ext cx="0" cy="19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74960" y="261612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38280" y="28195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06880" y="28195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9000" y="28195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43400" y="28195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19720" y="26668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95680" y="28195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3520" y="28195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00600" y="28195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73520" y="269244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07080" y="269244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07080" y="255888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07080" y="2432160"/>
              <a:ext cx="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07080" y="229860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0600" y="216540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43600" y="28195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48520" y="274320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95880" y="28195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67480" y="28195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514240" y="3276720"/>
              <a:ext cx="30492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2590920" y="3276720"/>
              <a:ext cx="30456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3733920" y="3276720"/>
              <a:ext cx="30456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809520" y="3276720"/>
              <a:ext cx="30492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5028840" y="3276720"/>
              <a:ext cx="30492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5105520" y="3276720"/>
              <a:ext cx="30456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6629040" y="3276720"/>
              <a:ext cx="30492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6705720" y="3276720"/>
              <a:ext cx="30456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8152920" y="3276720"/>
              <a:ext cx="30492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8229240" y="3276720"/>
              <a:ext cx="30492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30492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4648320" y="4952880"/>
            <a:ext cx="0" cy="533520"/>
            <a:chOff x="4648320" y="4952880"/>
            <a:chExt cx="0" cy="533520"/>
          </a:xfrm>
        </p:grpSpPr>
        <p:sp>
          <p:nvSpPr>
            <p:cNvPr id="277" name=""/>
            <p:cNvSpPr/>
            <p:nvPr/>
          </p:nvSpPr>
          <p:spPr>
            <a:xfrm>
              <a:off x="4648320" y="4952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48320" y="495288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971800" y="57913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3440" y="5084640"/>
            <a:ext cx="42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tazioni puntiformi: patog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31040" y="5092560"/>
            <a:ext cx="46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tazioni puntiformi:polimorfis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1520" y="5954760"/>
            <a:ext cx="28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tazioni framesh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657240" y="837720"/>
            <a:ext cx="3505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Un po’ di Genetica </a:t>
            </a:r>
            <a:br>
              <a:rPr sz="2800"/>
            </a:b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di popol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6934320" y="533520"/>
            <a:ext cx="1981080" cy="17524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842040" y="5105520"/>
            <a:ext cx="733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/39.000 nella popolazione caucasica e 1/2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lla popolazione africa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3760" y="2133720"/>
            <a:ext cx="886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mutazioni presenti sono diverse all’interno d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polazione generale, ma sono concentrate in pu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rticolari della molecola: esone I e III, indic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e queste regioni sono critiche per l’attivita’ dell’enz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5040" y="3884760"/>
            <a:ext cx="184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57200" y="3962520"/>
            <a:ext cx="6536160" cy="844560"/>
            <a:chOff x="457200" y="3962520"/>
            <a:chExt cx="6536160" cy="844560"/>
          </a:xfrm>
        </p:grpSpPr>
        <p:pic>
          <p:nvPicPr>
            <p:cNvPr id="293" name="" descr=""/>
            <p:cNvPicPr/>
            <p:nvPr/>
          </p:nvPicPr>
          <p:blipFill>
            <a:blip r:embed="rId3"/>
            <a:stretch/>
          </p:blipFill>
          <p:spPr>
            <a:xfrm>
              <a:off x="457200" y="3962520"/>
              <a:ext cx="861840" cy="8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1309320" y="4113360"/>
              <a:ext cx="568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quale e’ la frequenza della malattia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657240" y="837720"/>
            <a:ext cx="3505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Un po’ di Genetica </a:t>
            </a:r>
            <a:br>
              <a:rPr sz="2800"/>
            </a:b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di popol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6934320" y="533520"/>
            <a:ext cx="1981080" cy="1752480"/>
          </a:xfrm>
          <a:prstGeom prst="rect">
            <a:avLst/>
          </a:prstGeom>
          <a:ln w="0">
            <a:noFill/>
          </a:ln>
        </p:spPr>
      </p:pic>
      <p:grpSp>
        <p:nvGrpSpPr>
          <p:cNvPr id="301" name=""/>
          <p:cNvGrpSpPr/>
          <p:nvPr/>
        </p:nvGrpSpPr>
        <p:grpSpPr>
          <a:xfrm>
            <a:off x="609480" y="2133720"/>
            <a:ext cx="7876800" cy="844560"/>
            <a:chOff x="609480" y="2133720"/>
            <a:chExt cx="7876800" cy="844560"/>
          </a:xfrm>
        </p:grpSpPr>
        <p:pic>
          <p:nvPicPr>
            <p:cNvPr id="302" name="" descr=""/>
            <p:cNvPicPr/>
            <p:nvPr/>
          </p:nvPicPr>
          <p:blipFill>
            <a:blip r:embed="rId3"/>
            <a:stretch/>
          </p:blipFill>
          <p:spPr>
            <a:xfrm>
              <a:off x="609480" y="2133720"/>
              <a:ext cx="862200" cy="8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1473480" y="2133720"/>
              <a:ext cx="7012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’e’ differenza nelle mutazioni presenti nell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iverse popolazioni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68200" y="3276720"/>
            <a:ext cx="819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cuni tipi di mutazioni sono piu’ rare di altre e 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itrovano solo in alcuni gruppi etnici,in cui poss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ssere presenti in omozig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480384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esto fenomeno viene defini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ffetto del fonda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 indica che la popolazione che sto studiando ha avuto un ancestore comune in cui si e’ originata la mu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657240" y="837720"/>
            <a:ext cx="3505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Un po’ di Genetica </a:t>
            </a:r>
            <a:br>
              <a:rPr sz="2800"/>
            </a:b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di popol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6934320" y="533520"/>
            <a:ext cx="1981080" cy="17524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593640" y="2131920"/>
            <a:ext cx="1843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05920" y="2133720"/>
            <a:ext cx="807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’ possibile calcolare la frequenza dell’eterozigot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scindere dal tipo di mutazi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48480" y="3276720"/>
            <a:ext cx="58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 applica la legge di  Hardy Wien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" y="3886200"/>
            <a:ext cx="8534520" cy="14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 una popolazione all’equilibrio per un certo locus con 2 alleli che hanno frequenza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q,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e frequenze genotipiche saranno uquali a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+2pq +q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57240" y="837720"/>
            <a:ext cx="3505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Un po’ di Genetica </a:t>
            </a:r>
            <a:br>
              <a:rPr sz="2800"/>
            </a:b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di popol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6934320" y="533520"/>
            <a:ext cx="1981080" cy="17524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93640" y="2131920"/>
            <a:ext cx="1843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1752480"/>
            <a:ext cx="8534520" cy="14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 una popolazione all’equilibrio per un certo locus con 2 alleli che hanno frequenza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q,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e frequenze genotipiche saranno uquali a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+2pq +q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5200" y="3552840"/>
            <a:ext cx="7133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genotipi sono: AA(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, Aa(2pq), aa (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, bas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re la radice quadrata di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 avere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4653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l momento che p+q=1 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a somma degli alleli e’ sempre 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527364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=1-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657240" y="837720"/>
            <a:ext cx="3505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Un po’ di Genetica </a:t>
            </a:r>
            <a:br>
              <a:rPr sz="2800"/>
            </a:b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di popol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934320" y="533520"/>
            <a:ext cx="1981080" cy="17524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93640" y="2131920"/>
            <a:ext cx="1843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80960" y="2057400"/>
            <a:ext cx="79088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 stima che la frequenza di OCA nella popol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nerale sia: 1/40.000 (0.00002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a = q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a = q = 0.00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= p= 1-0.005= 0.995    Aa = 2pq = 0.00995 (~1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58200" y="4038480"/>
            <a:ext cx="826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uriosita’:l’albinismo e’ diffuso in tutto il mondo, ma nella tribu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opi del centro Americ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495288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6/6000 aa = q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(0.0043)   a = q = 0.065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=p =1-q = 1-0.065 = 0.935  Aa = 2pq = 0,1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38160" y="6018120"/>
            <a:ext cx="63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che? cosa ha fatto diffondere l’alle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428640" y="7617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Eterogenita’ genetica</a:t>
            </a:r>
            <a:br>
              <a:rPr sz="2800"/>
            </a:b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in 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7162920" y="609480"/>
            <a:ext cx="1770120" cy="15973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52280" y="198108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fenotipo e’ il risultato di una catena di interazioni:il risultato finale puo’ risultare simile anche quando i locus sono divers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120" y="3352680"/>
            <a:ext cx="902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l caso dell’albinismo esistono piu’ loci la cui mu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voca la mancata pigmentazione.Inoltre altre pat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lesse presentano fra le altre manifestazioni clin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depigmentazione. Il termin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lbin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e’ troppo gene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0360" y="5257800"/>
            <a:ext cx="898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 esempio esiste l’albinismo oculare OA che ha ered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-linked in cui la cute e le articolazioni non sono coinvolt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 in una sua forma si accompagna a sord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57080" y="564840"/>
            <a:ext cx="4605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Polimorfismo RFLP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22520" y="1198440"/>
            <a:ext cx="62802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olimorfismi del DNA: di restrizione (RFLP), minisatellite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microsatellite. Individuabili con southern blottling o PC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8040" y="1974960"/>
            <a:ext cx="833940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RFLP: La sonda riconosce il polimorfismo con un particolare enzima, ma non con altr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4880" y="3527280"/>
            <a:ext cx="4164120" cy="2826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46240" y="3244680"/>
            <a:ext cx="776160" cy="141480"/>
          </a:xfrm>
          <a:prstGeom prst="rect">
            <a:avLst/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39920" y="3527280"/>
            <a:ext cx="0" cy="28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74960" y="3527280"/>
            <a:ext cx="0" cy="28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74840" y="3527280"/>
            <a:ext cx="0" cy="28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68760" y="3527280"/>
            <a:ext cx="0" cy="28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73640" y="3527280"/>
            <a:ext cx="0" cy="28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7640" y="2963880"/>
            <a:ext cx="422280" cy="563400"/>
          </a:xfrm>
          <a:prstGeom prst="lightningBolt">
            <a:avLst/>
          </a:pr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22520" y="2963880"/>
            <a:ext cx="352440" cy="563400"/>
          </a:xfrm>
          <a:prstGeom prst="lightningBolt">
            <a:avLst/>
          </a:prstGeom>
          <a:gradFill rotWithShape="0">
            <a:gsLst>
              <a:gs pos="0">
                <a:srgbClr val="ffffff"/>
              </a:gs>
              <a:gs pos="50000">
                <a:srgbClr val="00008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22400" y="2963880"/>
            <a:ext cx="352440" cy="563400"/>
          </a:xfrm>
          <a:prstGeom prst="lightningBolt">
            <a:avLst/>
          </a:prstGeom>
          <a:gradFill rotWithShape="0">
            <a:gsLst>
              <a:gs pos="0">
                <a:srgbClr val="ffffff"/>
              </a:gs>
              <a:gs pos="50000">
                <a:srgbClr val="00008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44680" y="2963880"/>
            <a:ext cx="424080" cy="563400"/>
          </a:xfrm>
          <a:prstGeom prst="lightningBolt">
            <a:avLst/>
          </a:pr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1360" y="2963880"/>
            <a:ext cx="422280" cy="563400"/>
          </a:xfrm>
          <a:prstGeom prst="lightningBolt">
            <a:avLst/>
          </a:pr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35800" y="3814920"/>
            <a:ext cx="442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Comic Sans MS"/>
              </a:rPr>
              <a:t>A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64640" y="3809880"/>
            <a:ext cx="442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Comic Sans MS"/>
              </a:rPr>
              <a:t>A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69520" y="3809880"/>
            <a:ext cx="442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Comic Sans MS"/>
              </a:rPr>
              <a:t>A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62920" y="3809880"/>
            <a:ext cx="438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700" spc="-1" strike="noStrike">
                <a:solidFill>
                  <a:srgbClr val="0710ff"/>
                </a:solidFill>
                <a:latin typeface="Comic Sans MS"/>
              </a:rPr>
              <a:t>B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52000" y="3809880"/>
            <a:ext cx="438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700" spc="-1" strike="noStrike">
                <a:solidFill>
                  <a:srgbClr val="0710ff"/>
                </a:solidFill>
                <a:latin typeface="Comic Sans MS"/>
              </a:rPr>
              <a:t>B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4880" y="4797360"/>
            <a:ext cx="4164120" cy="2826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46240" y="4514760"/>
            <a:ext cx="776160" cy="141480"/>
          </a:xfrm>
          <a:prstGeom prst="rect">
            <a:avLst/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39920" y="4797360"/>
            <a:ext cx="0" cy="28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74960" y="4797360"/>
            <a:ext cx="0" cy="28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74840" y="4797360"/>
            <a:ext cx="0" cy="28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73640" y="4797360"/>
            <a:ext cx="0" cy="28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7640" y="4232160"/>
            <a:ext cx="422280" cy="565200"/>
          </a:xfrm>
          <a:prstGeom prst="lightningBolt">
            <a:avLst/>
          </a:pr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22520" y="4232160"/>
            <a:ext cx="352440" cy="565200"/>
          </a:xfrm>
          <a:prstGeom prst="lightningBolt">
            <a:avLst/>
          </a:prstGeom>
          <a:gradFill rotWithShape="0">
            <a:gsLst>
              <a:gs pos="0">
                <a:srgbClr val="ffffff"/>
              </a:gs>
              <a:gs pos="50000">
                <a:srgbClr val="00008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22400" y="4232160"/>
            <a:ext cx="352440" cy="565200"/>
          </a:xfrm>
          <a:prstGeom prst="lightningBolt">
            <a:avLst/>
          </a:prstGeom>
          <a:gradFill rotWithShape="0">
            <a:gsLst>
              <a:gs pos="0">
                <a:srgbClr val="ffffff"/>
              </a:gs>
              <a:gs pos="50000">
                <a:srgbClr val="00008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1360" y="4232160"/>
            <a:ext cx="422280" cy="565200"/>
          </a:xfrm>
          <a:prstGeom prst="lightningBolt">
            <a:avLst/>
          </a:pr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35800" y="5084640"/>
            <a:ext cx="442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Comic Sans MS"/>
              </a:rPr>
              <a:t>A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69520" y="5079960"/>
            <a:ext cx="442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Comic Sans MS"/>
              </a:rPr>
              <a:t>A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62920" y="5079960"/>
            <a:ext cx="438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Comic Sans MS"/>
              </a:rPr>
              <a:t>B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52000" y="5079960"/>
            <a:ext cx="438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Comic Sans MS"/>
              </a:rPr>
              <a:t>B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24160" y="5324400"/>
            <a:ext cx="12794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mutazi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elimina il si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di restrizi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68760" y="5113440"/>
            <a:ext cx="0" cy="282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33760" y="6137280"/>
            <a:ext cx="1805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700" spc="-1" strike="noStrike">
                <a:solidFill>
                  <a:srgbClr val="0710ff"/>
                </a:solidFill>
                <a:latin typeface="Comic Sans MS"/>
              </a:rPr>
              <a:t>endonucleasi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86160" y="5996160"/>
            <a:ext cx="352440" cy="564840"/>
          </a:xfrm>
          <a:prstGeom prst="lightningBolt">
            <a:avLst/>
          </a:prstGeom>
          <a:gradFill rotWithShape="0">
            <a:gsLst>
              <a:gs pos="0">
                <a:srgbClr val="ffffff"/>
              </a:gs>
              <a:gs pos="50000">
                <a:srgbClr val="00008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58760" y="5996160"/>
            <a:ext cx="422280" cy="564840"/>
          </a:xfrm>
          <a:prstGeom prst="lightningBolt">
            <a:avLst/>
          </a:pr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82680" y="6137280"/>
            <a:ext cx="1809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Comic Sans MS"/>
              </a:rPr>
              <a:t>endonucleasi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2480" y="2892600"/>
            <a:ext cx="352440" cy="3457440"/>
          </a:xfrm>
          <a:prstGeom prst="rect">
            <a:avLst/>
          </a:prstGeom>
          <a:solidFill>
            <a:srgbClr val="009999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48480" y="2892600"/>
            <a:ext cx="354240" cy="3457440"/>
          </a:xfrm>
          <a:prstGeom prst="rect">
            <a:avLst/>
          </a:prstGeom>
          <a:solidFill>
            <a:srgbClr val="009999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95400" y="2468520"/>
            <a:ext cx="90756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mic Sans MS"/>
              </a:rPr>
              <a:t>Enzim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01880" y="2468520"/>
            <a:ext cx="90756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710ff"/>
                </a:solidFill>
                <a:latin typeface="Comic Sans MS"/>
              </a:rPr>
              <a:t>Enzim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710ff"/>
                </a:solidFill>
                <a:latin typeface="Comic Sans MS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2480" y="3457440"/>
            <a:ext cx="352440" cy="21132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2480" y="4162320"/>
            <a:ext cx="352440" cy="21132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48480" y="4586400"/>
            <a:ext cx="354240" cy="21096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13760" y="6251400"/>
            <a:ext cx="265572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attern di ibridazione s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filtr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657240" y="4568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Eterogenita’ genetica</a:t>
            </a:r>
            <a:br>
              <a:rPr sz="2800"/>
            </a:b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in 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7297560" y="609480"/>
            <a:ext cx="1770120" cy="15973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76320" y="16002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l caso dell’albinismo oculocutaneo, ne esistono almeno tre tip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7520" y="2666880"/>
            <a:ext cx="85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ipo I,OCA1: originato dalla mutazione del gene d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irosinasi, mappa in 11q.All’interno di questo tipo so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ti descrittialmeno 3 sottotip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7600" y="4094280"/>
            <a:ext cx="855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ipo I, OCA1A: Albinismo oculocutaneo classico con assenza to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 attivita’ tirosina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98800" y="4915080"/>
            <a:ext cx="883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ipo I, OCA1B: Albinismo oculocutaneo con attivita’ parziale d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irosinasi. Viene anche definito mutante giallo inquanto il colore d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apelli e piu’ vicino al biondo che al bianco. Una variante di ques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’ l’albinismo sensibile alla temperatura indicato come OCA1-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428640" y="7617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Eterogenita’ genetica</a:t>
            </a:r>
            <a:br>
              <a:rPr sz="2800"/>
            </a:b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in 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7162920" y="609480"/>
            <a:ext cx="1770120" cy="15973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-100440" y="2286000"/>
            <a:ext cx="93978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A1B e OCA1-TS: sono un esempio di effetto 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ndatore: infatti il primo e’ stato descritto in un grup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sh (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munita’ religiosa isolata geneticamente per motivi religiosi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cui era presente in omozigosi una mutazione missenso(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f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st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66400" y="4648320"/>
            <a:ext cx="857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A1-TS : e’ originato da una mutazione missenso 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voca una degradazione piu’ rapida dell’enzima al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mperature corporee, piu’ che patologica sembra 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riante parzialmente benig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428640" y="7617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Eterogenita’ genetica</a:t>
            </a:r>
            <a:br>
              <a:rPr sz="2800"/>
            </a:b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in 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7162920" y="609480"/>
            <a:ext cx="1770120" cy="15973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242640" y="1828800"/>
            <a:ext cx="865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ipoII OCA2: Questo tipo presenta attivita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irosinasica e mappa in 15q. E’ dovuto alla mu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l locus p, spesso si ritrova associato alla si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 Prader-Willi dovuta a delezione di una grossa reg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omoso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0240" y="4114800"/>
            <a:ext cx="900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ipoIII, OCA3: E’ dovuto alla mutazione del gene TYRP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tyrosinase-related-protein-1) che si ritiene abbia un ru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golatorio nell’attivita’ della tirosinasi.Mappa in 9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428640" y="7617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Difetti congeniti del metabol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7162920" y="609480"/>
            <a:ext cx="1770120" cy="15973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2417760" y="1981080"/>
            <a:ext cx="234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essagg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-143280" y="2743200"/>
            <a:ext cx="939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 difetto genetico del metabolismo non e’ origi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lo da alterazioni del gene codificante l’enzima coinvo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lla singola reazione, ma puo’ essere originato da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tazione del gene del coenzima, dalla mancata prod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i carrier di specifiche molecole (malattie lisosomiali)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428640" y="7617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Difetti congeniti del metabol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7162920" y="609480"/>
            <a:ext cx="1770120" cy="15973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533520" y="2057400"/>
            <a:ext cx="7924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difetti congeniti del metabolismo noti sono orm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lti e di moltissimi si conosce il gene e le mutazioni che sono all’origine della patolog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esto rende possibile la diagnosi pre e post na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sententendo in alcuni casi anche la terapia (cfr.libro di tes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78560" y="4722840"/>
            <a:ext cx="885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uttavia la presenza di allelia multipla e di eterogene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netica rende sempre necessario l’analisi dell’affetto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finire in ogni famiglia quale delle possibili mutazioni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Difetti congeniti del metabolismo diagnosi molecol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7162920" y="609480"/>
            <a:ext cx="1770120" cy="15973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380880" y="1898640"/>
            <a:ext cx="7162560" cy="1949760"/>
            <a:chOff x="380880" y="1898640"/>
            <a:chExt cx="7162560" cy="1949760"/>
          </a:xfrm>
        </p:grpSpPr>
        <p:sp>
          <p:nvSpPr>
            <p:cNvPr id="396" name=""/>
            <p:cNvSpPr/>
            <p:nvPr/>
          </p:nvSpPr>
          <p:spPr>
            <a:xfrm>
              <a:off x="762120" y="25527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38080" y="24001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25527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68560" y="25527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95280" y="25527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23880" y="25527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168560" y="242568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301760" y="242568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01760" y="2292480"/>
              <a:ext cx="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301760" y="216540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301760" y="203184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295280" y="189864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16160" y="25527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2057400" y="2628720"/>
              <a:ext cx="0" cy="533520"/>
              <a:chOff x="2057400" y="2628720"/>
              <a:chExt cx="0" cy="533520"/>
            </a:xfrm>
          </p:grpSpPr>
          <p:sp>
            <p:nvSpPr>
              <p:cNvPr id="410" name=""/>
              <p:cNvSpPr/>
              <p:nvPr/>
            </p:nvSpPr>
            <p:spPr>
              <a:xfrm>
                <a:off x="2057400" y="262872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057400" y="2628720"/>
                <a:ext cx="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1816200" y="2514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81080" y="2171520"/>
              <a:ext cx="0" cy="19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74960" y="234936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76520" y="25844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06880" y="25527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124080" y="25844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708360" y="25588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84680" y="240660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60640" y="25588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038480" y="25588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65560" y="25588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38480" y="2432160"/>
              <a:ext cx="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72040" y="2432160"/>
              <a:ext cx="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72040" y="229860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72040" y="217152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72040" y="203832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165560" y="1905120"/>
              <a:ext cx="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181480" y="250812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86400" y="243216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34120" y="250812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553080" y="25844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380880" y="3117960"/>
              <a:ext cx="7162560" cy="730440"/>
              <a:chOff x="380880" y="3117960"/>
              <a:chExt cx="7162560" cy="730440"/>
            </a:xfrm>
          </p:grpSpPr>
          <p:sp>
            <p:nvSpPr>
              <p:cNvPr id="434" name=""/>
              <p:cNvSpPr/>
              <p:nvPr/>
            </p:nvSpPr>
            <p:spPr>
              <a:xfrm>
                <a:off x="380880" y="3255120"/>
                <a:ext cx="439920" cy="687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32160" y="3152160"/>
                <a:ext cx="1696320" cy="2401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ed0d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65840" y="3255120"/>
                <a:ext cx="313920" cy="687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532960" y="3152160"/>
                <a:ext cx="863640" cy="2401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ed0d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I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333600" y="3255120"/>
                <a:ext cx="188280" cy="687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501360" y="3152160"/>
                <a:ext cx="879480" cy="2401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ed0d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II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276080" y="3255120"/>
                <a:ext cx="565200" cy="687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94840" y="3152160"/>
                <a:ext cx="863640" cy="2401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ed0d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I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95840" y="3255120"/>
                <a:ext cx="376920" cy="687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936400" y="3152160"/>
                <a:ext cx="863640" cy="2401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ed0d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726600" y="3255120"/>
                <a:ext cx="816840" cy="687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5400000">
                <a:off x="1823040" y="3178440"/>
                <a:ext cx="68400" cy="565200"/>
              </a:xfrm>
              <a:custGeom>
                <a:avLst/>
                <a:gdLst>
                  <a:gd name="textAreaLeft" fmla="*/ 0 w 68400"/>
                  <a:gd name="textAreaRight" fmla="*/ 47880 w 68400"/>
                  <a:gd name="textAreaTop" fmla="*/ 23400 h 565200"/>
                  <a:gd name="textAreaBottom" fmla="*/ 541800 h 565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5400000">
                <a:off x="3833280" y="3212640"/>
                <a:ext cx="68760" cy="565200"/>
              </a:xfrm>
              <a:custGeom>
                <a:avLst/>
                <a:gdLst>
                  <a:gd name="textAreaLeft" fmla="*/ 0 w 68760"/>
                  <a:gd name="textAreaRight" fmla="*/ 48240 w 68760"/>
                  <a:gd name="textAreaTop" fmla="*/ 23400 h 565200"/>
                  <a:gd name="textAreaBottom" fmla="*/ 541800 h 565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511280" y="3511080"/>
                <a:ext cx="685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Cu(A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87760" y="349560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Cu(B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2265840" y="3117960"/>
                <a:ext cx="251280" cy="27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2328120" y="3117960"/>
                <a:ext cx="250920" cy="27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3270600" y="3117960"/>
                <a:ext cx="250920" cy="27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3333600" y="3117960"/>
                <a:ext cx="251280" cy="27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4339080" y="3117960"/>
                <a:ext cx="251280" cy="27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4401720" y="3117960"/>
                <a:ext cx="250920" cy="27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5658840" y="3117960"/>
                <a:ext cx="251280" cy="27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5721120" y="3117960"/>
                <a:ext cx="250920" cy="27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6915240" y="3117960"/>
                <a:ext cx="251280" cy="27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6978240" y="3117960"/>
                <a:ext cx="251280" cy="27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9" name=""/>
          <p:cNvSpPr/>
          <p:nvPr/>
        </p:nvSpPr>
        <p:spPr>
          <a:xfrm>
            <a:off x="259200" y="3962520"/>
            <a:ext cx="89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’ necessario per prima cosa identificare la mu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sente nella famiglia. Cioe’ eseguire un’analisi gene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1840" y="5381640"/>
            <a:ext cx="88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alisi genetica non e’ uguale a screening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polazione: si esegue dietro richiesta di singoli individ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Difetti congeniti del metabolismo </a:t>
            </a:r>
            <a:br>
              <a:rPr sz="2800"/>
            </a:b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analisi gene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7162920" y="609480"/>
            <a:ext cx="1770120" cy="15973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146160" y="2362320"/>
            <a:ext cx="883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analisi individua il genotipo di individui a rischio 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n  definite patologie. Oggi possono essere identific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che prima della nascita piu’ di 200 malattie geneti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4720" y="4343400"/>
            <a:ext cx="860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maggior parte sono rare e l’analisi viene fatta so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do c’e’ una indicazione prec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Difetti congeniti del metabolismo </a:t>
            </a:r>
            <a:br>
              <a:rPr sz="2800"/>
            </a:b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scre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7162920" y="609480"/>
            <a:ext cx="1770120" cy="159732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234720" y="2362320"/>
            <a:ext cx="870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 screening genetico si effettua su una popolazione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 un gruppo di individui non imparentati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08360" y="3581280"/>
            <a:ext cx="895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n si possono fare screening per tutte le possibi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lattie: si effettua su una popolazione in cui 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rticolare patologia ha un’incidenza significativ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s.Tay-Sachs nei canadesi francofoni o negli ebr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rientali. L’anemia falciforme nel bacino mediterraneo,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lassemia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Difetti congeniti del metabolismo </a:t>
            </a:r>
            <a:br>
              <a:rPr sz="2800"/>
            </a:b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scre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7162920" y="609480"/>
            <a:ext cx="1770120" cy="15973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-25200" y="2362320"/>
            <a:ext cx="8951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 test di screening deve rispondere ad alcu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atteristic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popolazione da testare e’ ben identific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analisi e’ economica e rap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analisi prenatale consente alle coppie di port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 operare scelte riprodut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’ possibile anche nel caso degli affetti interven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 impedire la comparsa della patologia: fenilchetonu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d0602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57080" y="564840"/>
            <a:ext cx="4605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Polimorfismo 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142200" y="1447920"/>
            <a:ext cx="89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zione presente nella popolazione con una frequen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eriore a 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68520" y="2514600"/>
            <a:ext cx="35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imorfismi prote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6743520" cy="2160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2280" y="55627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imorfismi del DNA: di restrizione (RFLP), minisatelli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crosatellite. Individuabili con southern blotting o P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d0602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d0602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d0602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d0602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d0602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d0602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d0602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d0602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d0602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d0602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3581280"/>
            <a:ext cx="3581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olimorfismo RFLP esemp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174840" y="565200"/>
            <a:ext cx="5160960" cy="6207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871040" y="704880"/>
            <a:ext cx="1352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Lunghezz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dei framment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4280" y="1058760"/>
            <a:ext cx="282924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Alleli identificati dall’ibridazi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su Souther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8960" y="2560680"/>
            <a:ext cx="255960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Possibile interpretazione dei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risultat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93000" y="4309920"/>
            <a:ext cx="243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18560" y="4944960"/>
            <a:ext cx="316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37280" y="6039000"/>
            <a:ext cx="389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II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9160" y="4591080"/>
            <a:ext cx="2298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1       2               3       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94280" y="5367240"/>
            <a:ext cx="980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1          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70240" y="6426360"/>
            <a:ext cx="25671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1    2   3    4   5    6   7   8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76080" y="1833480"/>
            <a:ext cx="5724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I1  I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14520" y="1833480"/>
            <a:ext cx="5724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I3  I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79800" y="1833480"/>
            <a:ext cx="3924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II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19600" y="1833480"/>
            <a:ext cx="3924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II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51360" y="2187720"/>
            <a:ext cx="3668760" cy="21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III1 III2 III3 III4 III5 III6 III7 III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91160" y="18334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91160" y="2116080"/>
            <a:ext cx="11289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73640" y="1905120"/>
            <a:ext cx="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951000" y="2116080"/>
            <a:ext cx="422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d0602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d0602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d0602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d0602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d0602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82600" y="1198440"/>
            <a:ext cx="83390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Mini e micro satelliti: Riconosciuti su gel dopo amplificazione con PCR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74960" y="1697040"/>
            <a:ext cx="5292720" cy="51465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7760" y="493200"/>
            <a:ext cx="4995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Polimorfismo PC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10666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Analisi delle mutazioni di OCA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162920" y="609480"/>
            <a:ext cx="1770120" cy="1597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46240" y="1981080"/>
            <a:ext cx="7239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gene della tirosinasi e’ lungo circa 50Kb ed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osto da 5 es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2895480"/>
            <a:ext cx="87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 ricerca delle mutazioni e’ essenziale per definire se il gene clonato e’ quello che una volta mutato provoca la patologia in es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3686040"/>
            <a:ext cx="87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isogna tenere presente che le variazioni di sequenza non sempre sono patogene, possono anche rappresentare polimorfismi che nel caso delle recessive costituiscono un proble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33520" y="4648320"/>
            <a:ext cx="861840" cy="844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583280" y="4799160"/>
            <a:ext cx="13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c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54100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lla popolazione generale e’ impossibile definire se un soggetto e’ portatore o meno dell’allele patogeno.Bisogna sempre esaminare gli affetti e i loro genitori, anche i fratelli possono essere fonte di errore: potrebbero essere non porta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8380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Analisi delle mutazioni di OCA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162920" y="609480"/>
            <a:ext cx="1770120" cy="1597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14480" y="1752480"/>
            <a:ext cx="8877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ll’albinismo oculocutaneo grazie 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quenziamento del gene e’ stata evidenziata la presen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 mutazioni diverse in siti diversi del gene (allelia multipla), che possono provocare fenotipi leggermente diver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74160" y="4378320"/>
            <a:ext cx="922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n confondere questo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’eterogeneita’ genetic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’ pure presente nell’albinismo. Esistono altre forme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binismo non legate a mutazione del gene della tirosinas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e dipendono da mutazioni di altri lo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8380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Analisi delle mutazioni di OCA 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162920" y="609480"/>
            <a:ext cx="1770120" cy="1597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1154160" y="2133720"/>
            <a:ext cx="41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terogeneita’ gene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3124080"/>
            <a:ext cx="8839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fenotipo e’ il risultato di una catena di interazioni:il risultato finale puo’ risultare simile anche quando i locus sono divers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’ importante identificare con precisione i criteri di definizione nel caso dell’albinismo un primo criterio e’ il dosaggio della tirosin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5400" y="1655640"/>
            <a:ext cx="31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priamo una parent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320" y="1260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841320" y="13032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5461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8380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602"/>
                </a:solidFill>
                <a:latin typeface="Comic Sans MS"/>
              </a:rPr>
              <a:t>Analisi delle mutazioni di OCA 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162920" y="609480"/>
            <a:ext cx="1770120" cy="1597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3809880" y="88920"/>
            <a:ext cx="4876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  Genetica I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76320" y="175248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strategie per individuare le mutazioni neg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ffetti o nei potenziali eterozigoti sono varie, la piu’ usata e’ la PCR o l’utilizzo di oligonucleotidi allele specifi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ntetizati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d hoc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per le singole famigl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3886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e si studiano le famigl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862200" cy="844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27800" y="4722840"/>
            <a:ext cx="901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isogna sempre analizzare i risultati nel loro insie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tilizzando le informazioni che vengono dalla popol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nera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8:54:06Z</dcterms:created>
  <dc:creator>Palumbo</dc:creator>
  <dc:description/>
  <dc:language>en-US</dc:language>
  <cp:lastModifiedBy>Mariano Rocchi</cp:lastModifiedBy>
  <cp:lastPrinted>2003-04-23T06:21:36Z</cp:lastPrinted>
  <dcterms:modified xsi:type="dcterms:W3CDTF">2004-05-03T06:05:32Z</dcterms:modified>
  <cp:revision>209</cp:revision>
  <dc:subject/>
  <dc:title>Procedimento sperimentale di Mendel</dc:title>
</cp:coreProperties>
</file>